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76131"/>
        <c:axId val="12221289"/>
      </c:barChart>
      <c:catAx>
        <c:axId val="48276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21289"/>
        <c:crosses val="autoZero"/>
        <c:auto val="1"/>
        <c:lblAlgn val="ctr"/>
        <c:lblOffset val="100"/>
        <c:noMultiLvlLbl val="0"/>
      </c:catAx>
      <c:valAx>
        <c:axId val="12221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76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956-F4D4-4232-8EE4-B8E39971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053-AD06-40AF-8AF9-C8A7438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A23-AE5C-4949-A135-7F334B96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698F-1924-4EDA-BB3D-A1257AAA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F81E-B841-46BB-8C8F-2D50887A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C3C-8A7A-4686-89F9-8D264A95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73A-6287-4FA8-A46F-21025CF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A2D8-1E6F-4D6F-AC87-82DEB9F7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AF45-A1A1-4D42-8081-C561876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0EA-15FE-485E-94C2-35751C08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E73-89C7-4754-9592-EE0197D3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BC3-7D77-4F17-B7E5-1ECE0AB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3FEE4-D19B-44E4-8FE0-2A1E0B708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