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25592"/>
        <c:axId val="22817554"/>
      </c:barChart>
      <c:catAx>
        <c:axId val="51425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17554"/>
        <c:crosses val="autoZero"/>
        <c:auto val="1"/>
        <c:lblAlgn val="ctr"/>
        <c:lblOffset val="100"/>
        <c:noMultiLvlLbl val="0"/>
      </c:catAx>
      <c:valAx>
        <c:axId val="22817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25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216-3DFF-4EBB-92EE-004E30D9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A7B-F0D1-4220-AFAB-6A329F05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142-DA38-4D5D-9EFC-3DB8109F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A58-C9FD-4EFE-A010-15963A92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28C-212D-49FF-B5BF-B8D3B759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3D2-49A5-4BD0-9BF0-1E44C836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B23-BF63-44BC-8179-EBEBBEFE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C24-83F5-46D8-804A-2FC489AE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931-3138-49D0-A163-94DDD100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22B-B298-404C-8683-F96862B8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F66-B02F-49E1-9AE7-0E47E5B7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FF5-B7BB-4B6A-8F8C-C4E67218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477EC-4215-4D83-90E6-E0EDA7D3E6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