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046"/>
        <c:axId val="92623078"/>
      </c:barChart>
      <c:catAx>
        <c:axId val="470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23078"/>
        <c:crosses val="autoZero"/>
        <c:auto val="1"/>
        <c:lblAlgn val="ctr"/>
        <c:lblOffset val="100"/>
        <c:noMultiLvlLbl val="0"/>
      </c:catAx>
      <c:valAx>
        <c:axId val="92623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221-E7F2-4065-8B59-DC73677F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7B1-13D3-4734-A85C-F2237003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CD8-B3F7-45C4-9B72-914CC4E0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86D-D586-438C-9673-7770A241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912-1060-4D0C-8F89-CDFE079D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238-7093-475D-BE5F-90735D77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BD5-1BD4-4528-B02D-B8B49831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9AF-2786-46AB-A0DC-D70F94B9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B52-6885-4BAD-BEB9-80225376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D97-1B26-4110-95CD-FDEE2012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D8C-981B-43FB-ACFF-634810AA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67C3-A8D2-422E-839A-CBE984B6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46D51-6660-44A6-8C61-C85E8A73DA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