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97356"/>
        <c:axId val="17157934"/>
      </c:barChart>
      <c:catAx>
        <c:axId val="72697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57934"/>
        <c:crosses val="autoZero"/>
        <c:auto val="1"/>
        <c:lblAlgn val="ctr"/>
        <c:lblOffset val="100"/>
        <c:noMultiLvlLbl val="0"/>
      </c:catAx>
      <c:valAx>
        <c:axId val="17157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7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5F5-9001-47A8-891A-CA8384AD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7EA-4367-4FDF-B88F-D3681C3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CD1-0287-4DFA-A077-CEDB9AC7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787-8FB9-44C4-8CCC-B5C1848C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7E0-C2FF-4E7B-8779-4033C36C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D40-1A0D-403C-80D3-A86ED6C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223-E3FA-47EE-BB58-91E756E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825-D564-4AD9-BEF9-2185ACC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7FF-4402-471E-BA96-D9C3C11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5AD-8600-425F-807D-5FD39D0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63C-F457-4DCC-907C-BB87D067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B34-B6D6-4F08-9CC3-FD790864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FB32E-8DBD-4F4D-820D-4EB664067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