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54344"/>
        <c:axId val="46965393"/>
      </c:barChart>
      <c:catAx>
        <c:axId val="13754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5393"/>
        <c:crosses val="autoZero"/>
        <c:auto val="1"/>
        <c:lblAlgn val="ctr"/>
        <c:lblOffset val="100"/>
        <c:noMultiLvlLbl val="0"/>
      </c:catAx>
      <c:valAx>
        <c:axId val="46965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54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D76-7225-4284-AD86-B2FCD955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5CF-282D-47BA-8BC0-EF3CDEB1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F34-5C01-4B58-A2E9-089C4AC6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1CE-A62C-4B51-9348-45CA6CB0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98C-3E9B-4122-B2DB-48832F71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691-5BE1-4FF9-9ED8-31FE9DD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32C-596F-4B66-9494-FB3CF7B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67B-E685-405B-B4D1-886F1B22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1BB-61B5-4C81-B46B-68048DE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64E1-2678-4C0B-965D-9C549EF1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08D-F9DF-4C99-9F88-64034E8C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09C-D67C-4176-BD84-9303164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BFF30-867A-4F2C-8D0A-1B6B538D6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